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4AFF-07E3-4034-941B-B6782D3EDD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39E4-9B1B-438F-B5D8-BDCDDDC0A86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CB7A-AAC4-4E3F-8D79-0A876AF34B8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9F22-3A6B-43A0-8A88-240DD43E69B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F1AF-1E12-4817-B7A2-875721640A7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54AB-965F-40D6-BFC0-0781E6BBAE3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0D41-78E9-42AA-B22E-814B7FF37FE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961C-0E29-4F0F-ABD0-CB4330FBDD5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3FFD-D736-4114-A0C6-D231F63A5AD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A4C6-EC85-4B0B-8134-A2F8B19C2DB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0BA9-B9CA-4CF8-BECC-1C1C129D940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E763-F5F1-48F0-BF4A-7DC02E8930C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D7D0-D44F-45B8-9139-5E20EEB7D42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6F6F-3EC9-4492-95E6-0A408DB6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3F2B-C2D3-4C4C-987E-E163D212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76A1-5A54-4E72-956F-5B408B830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7ECE-0EDA-4FD4-8387-80E37C7D3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9EBD-E452-409F-A5C7-D95779022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F37C-2ABE-49F3-A43B-0B6C1E1C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16B8-DDDD-42E0-A313-79E5FCAC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27F8-EF47-4DDC-907A-4B9F874B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7D90-5C6D-433C-91A8-84C88FF1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9F96-FED6-4421-A586-5DB684E4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BBB4-5981-4276-ACA4-0E710803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BB52-C3D9-491D-B742-E7718546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99C3-A6B1-4434-8E61-7E4FBA90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24B9-9B26-489A-9E7F-FC16428C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508D-B889-4467-AB17-B7A60A1E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99CB-CADE-442D-956B-6DD902873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A409-6FDB-4940-A3C6-C5D7F2902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9E6D-B02C-4E2D-B466-5F160F3C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FE74-574A-4584-B0B0-90CE638F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D91A-5138-44DD-AF28-BFA131A2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03FE-176D-45E3-83F4-0918089D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741A-2EF1-4172-8B73-D73808F0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3452-1131-4263-9218-B18873CC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699B-FEB8-4A6F-890B-E84C6208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9440-992E-410D-9594-C7E4941AE38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851B-C4C5-40FE-B865-39D187FDA21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java.nationalgeographic.com/studentatlas/clickup/buddhism.html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images.google.com/imgres?imgurl=http://www.freefever.com/animatedgifs/animated/judaism4.gif&amp;imgrefurl=http://www.freefever.com/animatedgifs/judaism.html&amp;usg=__oqcxa5tg2ucPHowgT2-47VUlJLY=&amp;h=193&amp;w=197&amp;sz=16&amp;hl=en&amp;start=48&amp;sig2=7vkaOQBi_RtkDnfGJuIgYg&amp;tbnid=ikc6QUblmodtZM:&amp;tbnh=102&amp;tbnw=104&amp;ei=MBwfSf2NEIeOefGy1KgG&amp;prev=/images%3Fq%3Djudaism%26start%3D40%26gbv%3D2%26ndsp%3D20%26hl%3Den%26safe%3Dactive%26sa%3DN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ages.google.com/imgres?imgurl=http://www.scarboromissions.ca/Scarboro_missions_magazine/Issues/1994/February/images/judaism_1.jpg&amp;imgrefurl=http://www.scarboromissions.ca/Scarboro_missions_magazine/Issues/1994/February/judaism.php&amp;usg=__q9Lfsv6YGZK3abFF0YeTT4_JCfI=&amp;h=341&amp;w=250&amp;sz=22&amp;hl=en&amp;start=25&amp;sig2=lMXL-8EV8h1CVEYz_LRm6Q&amp;tbnid=HI-EcK2qaKxc-M:&amp;tbnh=120&amp;tbnw=88&amp;ei=TxwfSbCHNZGwerC1qLYG&amp;prev=/images%3Fq%3Djudaism%26start%3D20%26gbv%3D2%26ndsp%3D20%26hl%3Den%26safe%3Dactive%26sa%3DN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images.google.com/imgres?imgurl=http://www.tpub.com/content/religion/14229/img/14229_72_1.jpg&amp;imgrefurl=http://www.tpub.com/content/religion/14229/css/14229_72.htm&amp;usg=__Hqyw1_ETjZHfmhRaIAwl02hNXAU=&amp;h=317&amp;w=284&amp;sz=8&amp;hl=en&amp;start=21&amp;sig2=1GRvNxORMyAjtrLPAAnoug&amp;tbnid=eEVTJsRLe92V9M:&amp;tbnh=118&amp;tbnw=106&amp;ei=TxwfSbCHNZGwerC1qLYG&amp;prev=/images%3Fq%3Djudaism%26start%3D20%26gbv%3D2%26ndsp%3D20%26hl%3Den%26safe%3Dactive%26sa%3DN" TargetMode="External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nationalgeographic.com/xpeditions/hall/index.html?node=27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buddhart.com/product/EV69/aff10490/" TargetMode="External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hyperlink" Target="http://java.nationalgeographic.com/studentatlas/clickup/buddhism.html" TargetMode="External"/><Relationship Id="rId4" Type="http://schemas.openxmlformats.org/officeDocument/2006/relationships/hyperlink" Target="http://www.religionfacts.com/buddhism/fastfacts.htm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Judaism and Buddhis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Title 1" descr=""/>
          <p:cNvPicPr/>
          <p:nvPr/>
        </p:nvPicPr>
        <p:blipFill>
          <a:blip r:embed="rId1"/>
          <a:stretch/>
        </p:blipFill>
        <p:spPr>
          <a:xfrm>
            <a:off x="450720" y="5904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1430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Book Antiqua"/>
              </a:rPr>
              <a:t>http://ngm.nationalgeographic.com/ngm/0401/feature5/index.html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1143000" y="1828800"/>
            <a:ext cx="65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Book Antiqua"/>
              </a:rPr>
              <a:t>Look at the following website to view video clips and images from a Buddhist monastery.  You can also listen to audio clips of the monks at pray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itle 1" descr=""/>
          <p:cNvPicPr/>
          <p:nvPr/>
        </p:nvPicPr>
        <p:blipFill>
          <a:blip r:embed="rId1"/>
          <a:stretch/>
        </p:blipFill>
        <p:spPr>
          <a:xfrm>
            <a:off x="1279440" y="603360"/>
            <a:ext cx="7413840" cy="19875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33520" y="2508120"/>
            <a:ext cx="815328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o take a look at all of the world’s religions throughout time, go to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http://www.religionfacts.com/big_religion_chart.htm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Title 1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12128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42640" y="198072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Bloom, M.  “Day in the Life:  Rabbi..” Marketplace American Public Media Podcast.  Sept 18, 2004. http://marketplace.publicradio.org/display/web/2004/09/18/ditwl_rabbi/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Lange, K.  “In Their Own World:  India’s Forbidden Hanle Valley,”  Jan. 2004.  </a:t>
            </a:r>
            <a:r>
              <a:rPr b="0" i="1" lang="en-US" sz="1600" spc="-1" strike="noStrike">
                <a:solidFill>
                  <a:srgbClr val="ffffff"/>
                </a:solidFill>
                <a:latin typeface="Book Antiqua"/>
              </a:rPr>
              <a:t>National Geographic Magazine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. http://ngm.nationalgeographic.com/ngm/0401/feature5/index.html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National Geographic Xpedition hall, 2008, </a:t>
            </a:r>
            <a:r>
              <a:rPr b="0" i="1" lang="en-US" sz="1600" spc="-1" strike="noStrike">
                <a:solidFill>
                  <a:srgbClr val="ffffff"/>
                </a:solidFill>
                <a:latin typeface="Book Antiqua"/>
              </a:rPr>
              <a:t>National Geographic Society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. http://www.nationalgeographic.com/xpeditions/hall/index.html?node=27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Religion Facts:  Just the Facts on the World’s Religions.  2008. http://www.religionfacts.com/big_religion_chart.htm 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Social Studies – 9</a:t>
            </a:r>
            <a:r>
              <a:rPr b="0" lang="en-US" sz="2800" spc="-1" strike="noStrike" u="sng" baseline="30000">
                <a:solidFill>
                  <a:srgbClr val="ffffff"/>
                </a:solidFill>
                <a:uFillTx/>
                <a:latin typeface="Book Antiqua"/>
              </a:rPr>
              <a:t>th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 Grade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S.O.9.5.7 - explain the basic tenets of major world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religio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 and philosophies, their places of origin and the status of those 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religion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 today. 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7413480" cy="115236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228600" y="129528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Founded: 1300 B.C. in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Mesopotamia by Abrah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Population:  14 millio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mostly in Israel, Europe, and U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723920" y="3352680"/>
            <a:ext cx="44197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Book Antiqua"/>
              </a:rPr>
              <a:t>Spiritual Leader: Rabbi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Book Antiqua"/>
              </a:rPr>
              <a:t>Place of Worship:  Synagogu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Book Antiqua"/>
              </a:rPr>
              <a:t>Basis for:  Christianity &amp; Islam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Book Antiqua"/>
              </a:rPr>
              <a:t>Worshippers:  Jewish, Hebrews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7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4" name="Picture 4" descr="Dome of the Rock"/>
          <p:cNvPicPr/>
          <p:nvPr/>
        </p:nvPicPr>
        <p:blipFill>
          <a:blip r:embed="rId2"/>
          <a:stretch/>
        </p:blipFill>
        <p:spPr>
          <a:xfrm>
            <a:off x="5079960" y="228600"/>
            <a:ext cx="3765600" cy="2819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Jews at the Western Wall, Jerusalem"/>
          <p:cNvPicPr/>
          <p:nvPr/>
        </p:nvPicPr>
        <p:blipFill>
          <a:blip r:embed="rId3"/>
          <a:stretch/>
        </p:blipFill>
        <p:spPr>
          <a:xfrm>
            <a:off x="304920" y="3505320"/>
            <a:ext cx="44971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0" y="1143000"/>
            <a:ext cx="754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Afterlife:  Gan Eden, nonexistence, or reincar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Holidays:  Rosh Hashanah (Jewish New Year), Yom Kippur (Day of Atonement), and Hannuka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Beliefs:  Monotheist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Sacred Texts:  Tanakh with the Talm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For more facts, go to the website bel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Placeholder 2"/>
          <p:cNvSpPr/>
          <p:nvPr/>
        </p:nvSpPr>
        <p:spPr>
          <a:xfrm>
            <a:off x="990720" y="5105520"/>
            <a:ext cx="70866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://www.religionfacts.com/judaism/fastfacts.ht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8" descr="Temple Mount"/>
          <p:cNvPicPr/>
          <p:nvPr/>
        </p:nvPicPr>
        <p:blipFill>
          <a:blip r:embed="rId3"/>
          <a:stretch/>
        </p:blipFill>
        <p:spPr>
          <a:xfrm>
            <a:off x="5638680" y="2743200"/>
            <a:ext cx="333396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0720" y="5904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1932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http://marketplace.publicradio.org/display/web/2004/09/18/ditwl_rabbi/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228600" y="1981080"/>
            <a:ext cx="853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Book Antiqua"/>
              </a:rPr>
              <a:t>Go to the following website to listen to an audio clip of the day in the life of a Rabb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http://tbn0.google.com/images?q=tbn:ikc6QUblmodtZM:http://www.freefever.com/animatedgifs/animated/judaism4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10280" y="4267080"/>
            <a:ext cx="1632240" cy="2210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http://tbn0.google.com/images?q=tbn:HI-EcK2qaKxc-M:http://www.scarboromissions.ca/Scarboro_missions_magazine/Issues/1994/February/images/judaism_1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9480" y="4267080"/>
            <a:ext cx="1600200" cy="2183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http://tbn0.google.com/images?q=tbn:eEVTJsRLe92V9M:http://www.tpub.com/content/religion/14229/img/14229_72_1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62520" y="4572000"/>
            <a:ext cx="14475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225360" y="-139680"/>
            <a:ext cx="8815320" cy="188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304920" y="1523880"/>
          <a:ext cx="8229600" cy="4403880"/>
        </p:xfrm>
        <a:graphic>
          <a:graphicData uri="http://schemas.openxmlformats.org/drawingml/2006/table">
            <a:tbl>
              <a:tblPr/>
              <a:tblGrid>
                <a:gridCol w="1523880"/>
                <a:gridCol w="2286000"/>
                <a:gridCol w="2286000"/>
                <a:gridCol w="2133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Judais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Isl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Christia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opu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3.4 mill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 bill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.9 bill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riginat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iddle Ea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Jerusal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iddle Ea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ec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iddle Ea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Bethleh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Leade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Abrah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Muhamm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Jesus Chri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Belief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One G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People accountable for their si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Follow the ten command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 Pillars of Islam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profession of faith (shahad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prayer (salat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almsgiving (zakat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fasting (sawm)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pilgrimage (hajj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One G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Jesus died to save humanity from s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-Jesus is the Son of Go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ex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ora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Old Testa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Koran (Qur’a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Bible:  Old and New Testame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</a:tr>
            </a:tbl>
          </a:graphicData>
        </a:graphic>
      </p:graphicFrame>
      <p:sp>
        <p:nvSpPr>
          <p:cNvPr id="108" name="TextBox 4"/>
          <p:cNvSpPr/>
          <p:nvPr/>
        </p:nvSpPr>
        <p:spPr>
          <a:xfrm>
            <a:off x="533520" y="62485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ilarities in all three religions include the belief in only one God, prayer, Abraham, life after death, heaven and hell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le 1" descr=""/>
          <p:cNvPicPr/>
          <p:nvPr/>
        </p:nvPicPr>
        <p:blipFill>
          <a:blip r:embed="rId1"/>
          <a:stretch/>
        </p:blipFill>
        <p:spPr>
          <a:xfrm>
            <a:off x="225360" y="-139680"/>
            <a:ext cx="8815320" cy="18828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533520" y="1752480"/>
            <a:ext cx="8001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2971"/>
                </a:solidFill>
                <a:latin typeface="Arial"/>
              </a:rPr>
              <a:t>Similarities in all three relig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2971"/>
                </a:solidFill>
                <a:latin typeface="Arial"/>
              </a:rPr>
              <a:t>include the belief 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297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829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2971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82971"/>
                </a:solidFill>
                <a:latin typeface="Arial"/>
              </a:rPr>
              <a:t>One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829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2971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82971"/>
                </a:solidFill>
                <a:latin typeface="Arial"/>
              </a:rPr>
              <a:t>Pr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829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2971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82971"/>
                </a:solidFill>
                <a:latin typeface="Arial"/>
              </a:rPr>
              <a:t>Abrah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829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2971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82971"/>
                </a:solidFill>
                <a:latin typeface="Arial"/>
              </a:rPr>
              <a:t>Life after dea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38297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2971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82971"/>
                </a:solidFill>
                <a:latin typeface="Arial"/>
              </a:rPr>
              <a:t>Heaven and Hell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1" descr="Jon D. Levenson"/>
          <p:cNvPicPr/>
          <p:nvPr/>
        </p:nvPicPr>
        <p:blipFill>
          <a:blip r:embed="rId2"/>
          <a:stretch/>
        </p:blipFill>
        <p:spPr>
          <a:xfrm>
            <a:off x="5486400" y="2674800"/>
            <a:ext cx="320040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-6480" y="165240"/>
            <a:ext cx="8815680" cy="1882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514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://www.nationalgeographic.com/xpeditions/hall/index.html?node=27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2590920" y="2057400"/>
            <a:ext cx="655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Book Antiqua"/>
              </a:rPr>
              <a:t>Go to the following website to view the city of Jerusalem from the perspective of a Jew, a Christian, and a Musl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6" descr="http://www.smith.edu/jud/images/jerusalem.jpg"/>
          <p:cNvPicPr/>
          <p:nvPr/>
        </p:nvPicPr>
        <p:blipFill>
          <a:blip r:embed="rId3"/>
          <a:stretch/>
        </p:blipFill>
        <p:spPr>
          <a:xfrm>
            <a:off x="0" y="2057400"/>
            <a:ext cx="23335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212760" y="146160"/>
            <a:ext cx="7413480" cy="1152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http://www.buddhart.com/sculptures/laughing_buddha_ev69sm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9920" y="152280"/>
            <a:ext cx="2666880" cy="29768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228600" y="1295280"/>
            <a:ext cx="70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Founded:  520 B.C. in India by Buddh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Population:  360 million, mostly in Asi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4</a:t>
            </a:r>
            <a:r>
              <a:rPr b="0" lang="en-US" sz="2400" spc="-1" strike="noStrike" baseline="30000">
                <a:solidFill>
                  <a:srgbClr val="002060"/>
                </a:solidFill>
                <a:latin typeface="Book Antiqua"/>
              </a:rPr>
              <a:t>th</a:t>
            </a: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 largest in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257440" y="3352680"/>
            <a:ext cx="38862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Spiritual Leader:  Monk (Lama in Tibet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6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6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Place of Worship:  Temp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6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0" name="Picture 2" descr="http://go.hrw.com/venus_images/0306MC06.gif"/>
          <p:cNvPicPr/>
          <p:nvPr/>
        </p:nvPicPr>
        <p:blipFill>
          <a:blip r:embed="rId4"/>
          <a:stretch/>
        </p:blipFill>
        <p:spPr>
          <a:xfrm>
            <a:off x="228600" y="312408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0" y="1143000"/>
            <a:ext cx="754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Beliefs:  Polytheistic mainly, but some are Atheis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Afterlife:  Rebirth or Nirvana (heavenly paradi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Sacred Texts:  Tripita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Holidays:  Buddha’s birth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For more facts, go to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Book Antiqua"/>
              </a:rPr>
              <a:t>websites bel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6" descr="Buddhist monks"/>
          <p:cNvPicPr/>
          <p:nvPr/>
        </p:nvPicPr>
        <p:blipFill>
          <a:blip r:embed="rId2"/>
          <a:stretch/>
        </p:blipFill>
        <p:spPr>
          <a:xfrm>
            <a:off x="4724280" y="2438280"/>
            <a:ext cx="4224600" cy="28195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7"/>
          <p:cNvSpPr/>
          <p:nvPr/>
        </p:nvSpPr>
        <p:spPr>
          <a:xfrm>
            <a:off x="457200" y="556272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10082"/>
                </a:solidFill>
                <a:uFillTx/>
                <a:latin typeface="Arial"/>
                <a:hlinkClick r:id="rId3"/>
              </a:rPr>
              <a:t> http://java.nationalgeographic.com/studentatlas/clickup/buddhism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410082"/>
                </a:solidFill>
                <a:uFillTx/>
                <a:latin typeface="Arial"/>
                <a:hlinkClick r:id="rId4"/>
              </a:rPr>
              <a:t>http://www.religionfacts.com/buddhism/fastfacts.ht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00:18:24Z</dcterms:created>
  <dc:creator>Lezlie</dc:creator>
  <dc:description/>
  <dc:language>en-US</dc:language>
  <cp:lastModifiedBy>Lezlie</cp:lastModifiedBy>
  <dcterms:modified xsi:type="dcterms:W3CDTF">2008-11-15T19:08:45Z</dcterms:modified>
  <cp:revision>19</cp:revision>
  <dc:subject/>
  <dc:title>World religions</dc:title>
</cp:coreProperties>
</file>